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EFBEEDE0-619B-4589-B77D-5AE0C72D277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1600200"/>
            <a:ext cx="7691400" cy="39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120" rIns="691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CO, Ltd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roject AIM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Naming Conventions</a:t>
            </a:r>
            <a:br>
              <a:rPr sz="2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63520" y="4724280"/>
            <a:ext cx="7648560" cy="1143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50000">
                <a:srgbClr val="dfdfdf"/>
              </a:gs>
              <a:gs pos="100000">
                <a:srgbClr val="bfbfb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0" tIns="36000" bIns="36000" anchor="ctr">
            <a:noAutofit/>
          </a:bodyPr>
          <a:p>
            <a:pPr>
              <a:lnSpc>
                <a:spcPct val="110000"/>
              </a:lnSpc>
              <a:spcBef>
                <a:spcPts val="99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ules: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maximum</a:t>
            </a: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acters long, separator is do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9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small letters, numbers and underlin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egistration of all portal components is mandatory</a:t>
            </a:r>
            <a:br>
              <a:rPr sz="1600"/>
            </a:b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name</a:t>
            </a: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&gt;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st not contain d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Naming conventions for </a:t>
            </a: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Content Object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187280" y="1523880"/>
            <a:ext cx="7616880" cy="539640"/>
            <a:chOff x="1187280" y="1523880"/>
            <a:chExt cx="7616880" cy="539640"/>
          </a:xfrm>
        </p:grpSpPr>
        <p:sp>
          <p:nvSpPr>
            <p:cNvPr id="48" name=""/>
            <p:cNvSpPr/>
            <p:nvPr/>
          </p:nvSpPr>
          <p:spPr>
            <a:xfrm>
              <a:off x="1187280" y="1523880"/>
              <a:ext cx="46224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58960" y="1523880"/>
              <a:ext cx="81108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E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168720" y="1523880"/>
              <a:ext cx="87624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de-DE" sz="1400" spc="-1" strike="noStrike">
                  <a:solidFill>
                    <a:srgbClr val="0066ff"/>
                  </a:solidFill>
                  <a:latin typeface="Arial"/>
                </a:rPr>
                <a:t>source</a:t>
              </a:r>
              <a:r>
                <a:rPr b="0" i="1" lang="de-DE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214960" y="1523880"/>
              <a:ext cx="96048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400" spc="-1" strike="noStrike">
                  <a:solidFill>
                    <a:srgbClr val="009900"/>
                  </a:solidFill>
                  <a:latin typeface="Arial"/>
                </a:rPr>
                <a:t>function</a:t>
              </a: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86680" y="1523880"/>
              <a:ext cx="90144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4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004240" y="1523880"/>
              <a:ext cx="79992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4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679840" y="1523880"/>
              <a:ext cx="38556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p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48280" y="1523880"/>
              <a:ext cx="96660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4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400"/>
              </a:br>
              <a:r>
                <a:rPr b="1" lang="en-GB" sz="1400" spc="-1" strike="noStrike">
                  <a:solidFill>
                    <a:srgbClr val="cc66ff"/>
                  </a:solidFill>
                  <a:latin typeface="Arial"/>
                </a:rPr>
                <a:t> solution</a:t>
              </a:r>
              <a:br>
                <a:rPr sz="1400"/>
              </a:br>
              <a:r>
                <a:rPr b="1" lang="en-GB" sz="14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289640" y="1523880"/>
              <a:ext cx="61128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182000" y="1523880"/>
              <a:ext cx="10764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89624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7868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0840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3848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6216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7004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52760" y="1523880"/>
              <a:ext cx="10764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59560" y="1661040"/>
            <a:ext cx="77508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11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6699"/>
                </a:solidFill>
                <a:latin typeface="Arial"/>
              </a:rPr>
              <a:t>SAP EP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22200" y="2349360"/>
            <a:ext cx="7629840" cy="16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spAutoFit/>
          </a:bodyPr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domain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com 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(fixed)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company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676767"/>
                </a:solidFill>
                <a:latin typeface="Arial"/>
              </a:rPr>
              <a:t>ECO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(fix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object type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pct 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(fixed)</a:t>
            </a:r>
            <a:br>
              <a:rPr sz="1000"/>
            </a:b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0066ff"/>
                </a:solidFill>
                <a:latin typeface="Arial"/>
              </a:rPr>
              <a:t>source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predefined in the online Portal Object Catalogue, additional entries must be applied from 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US" sz="1000" spc="-1" strike="noStrike">
                <a:solidFill>
                  <a:srgbClr val="cc66ff"/>
                </a:solidFill>
                <a:latin typeface="Arial"/>
              </a:rPr>
              <a:t>portal solution package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online definition from user (developer, project, business unit,…) , release from CIO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009900"/>
                </a:solidFill>
                <a:latin typeface="Arial"/>
              </a:rPr>
              <a:t>function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predefined in the online Portal Object Catalogue, additional entries must be applied from CIO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 &lt;</a:t>
            </a:r>
            <a:r>
              <a:rPr b="1" lang="en-GB" sz="1000" spc="-1" strike="noStrike">
                <a:solidFill>
                  <a:srgbClr val="990033"/>
                </a:solidFill>
                <a:latin typeface="Arial"/>
              </a:rPr>
              <a:t>product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predefined in the online Portal Object Catalogue, additional entries must be applied from 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type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predefined in the online Portal Object Catalogue, additional entries must be applied from 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ff9900"/>
                </a:solidFill>
                <a:latin typeface="Arial"/>
              </a:rPr>
              <a:t>name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online definition from user (developer, project, business unit,…) , release from 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7600" y="2192400"/>
            <a:ext cx="2528640" cy="11160"/>
          </a:xfrm>
          <a:prstGeom prst="line">
            <a:avLst/>
          </a:prstGeom>
          <a:ln w="28440">
            <a:solidFill>
              <a:srgbClr val="67676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134720" y="2179800"/>
            <a:ext cx="2733480" cy="10800"/>
          </a:xfrm>
          <a:prstGeom prst="line">
            <a:avLst/>
          </a:prstGeom>
          <a:ln w="28440">
            <a:solidFill>
              <a:srgbClr val="67676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89080" y="2090880"/>
            <a:ext cx="220752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t">
            <a:spAutoFit/>
          </a:bodyPr>
          <a:p>
            <a:pPr algn="ctr">
              <a:lnSpc>
                <a:spcPct val="11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76767"/>
                </a:solidFill>
                <a:latin typeface="Arial"/>
              </a:rPr>
              <a:t>Maximum</a:t>
            </a:r>
            <a:r>
              <a:rPr b="1" lang="en-US" sz="12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en-US" sz="12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676767"/>
                </a:solidFill>
                <a:latin typeface="Arial"/>
              </a:rPr>
              <a:t>characters 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33520" y="1905120"/>
          <a:ext cx="7772400" cy="4571640"/>
        </p:xfrm>
        <a:graphic>
          <a:graphicData uri="http://schemas.openxmlformats.org/drawingml/2006/table">
            <a:tbl>
              <a:tblPr/>
              <a:tblGrid>
                <a:gridCol w="5135400"/>
                <a:gridCol w="2637000"/>
              </a:tblGrid>
              <a:tr h="309960">
                <a:tc gridSpan="2"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</a:t>
                      </a: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ource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play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</a:tr>
              <a:tr h="2599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&amp;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35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ust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0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Can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0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Germ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0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86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86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83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83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72" name=""/>
          <p:cNvGrpSpPr/>
          <p:nvPr/>
        </p:nvGrpSpPr>
        <p:grpSpPr>
          <a:xfrm>
            <a:off x="2514600" y="1066680"/>
            <a:ext cx="5005440" cy="460440"/>
            <a:chOff x="2514600" y="1066680"/>
            <a:chExt cx="5005440" cy="460440"/>
          </a:xfrm>
        </p:grpSpPr>
        <p:sp>
          <p:nvSpPr>
            <p:cNvPr id="73" name=""/>
            <p:cNvSpPr/>
            <p:nvPr/>
          </p:nvSpPr>
          <p:spPr>
            <a:xfrm>
              <a:off x="2514600" y="1066680"/>
              <a:ext cx="3034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90080" y="1066680"/>
              <a:ext cx="5328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720" y="1066680"/>
              <a:ext cx="575640" cy="4604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source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161320" y="1066680"/>
              <a:ext cx="631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function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865480" y="1066680"/>
              <a:ext cx="5922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94440" y="1066680"/>
              <a:ext cx="5256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95240" y="1066680"/>
              <a:ext cx="253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60400" y="1066680"/>
              <a:ext cx="6350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524640" y="1066680"/>
              <a:ext cx="4014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54080" y="10666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92316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9456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09112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8804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74652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42324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20240" y="10666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807000" y="1066680"/>
            <a:ext cx="609480" cy="47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09680" y="1600200"/>
            <a:ext cx="5005440" cy="476280"/>
            <a:chOff x="2209680" y="1600200"/>
            <a:chExt cx="5005440" cy="476280"/>
          </a:xfrm>
        </p:grpSpPr>
        <p:sp>
          <p:nvSpPr>
            <p:cNvPr id="93" name=""/>
            <p:cNvSpPr/>
            <p:nvPr/>
          </p:nvSpPr>
          <p:spPr>
            <a:xfrm>
              <a:off x="2209680" y="1600200"/>
              <a:ext cx="30312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85880" y="1600200"/>
              <a:ext cx="532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11440" y="1600200"/>
              <a:ext cx="57636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9900"/>
                  </a:solidFill>
                  <a:latin typeface="Arial"/>
                </a:rPr>
                <a:t>&lt;</a:t>
              </a:r>
              <a:r>
                <a:rPr b="1" lang="de-DE" sz="1000" spc="-1" strike="noStrike">
                  <a:solidFill>
                    <a:srgbClr val="0000ff"/>
                  </a:solidFill>
                  <a:latin typeface="Arial"/>
                </a:rPr>
                <a:t>source</a:t>
              </a:r>
              <a:r>
                <a:rPr b="1" lang="de-DE" sz="1000" spc="-1" strike="noStrike">
                  <a:solidFill>
                    <a:srgbClr val="009900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56040" y="1600200"/>
              <a:ext cx="6318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function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560920" y="1600200"/>
              <a:ext cx="5922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89520" y="1600200"/>
              <a:ext cx="5256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90680" y="1600200"/>
              <a:ext cx="25272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55840" y="1600200"/>
              <a:ext cx="635040" cy="4604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cc99ff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99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99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99ff"/>
                  </a:solidFill>
                  <a:latin typeface="Arial"/>
                </a:rPr>
                <a:t>   package</a:t>
              </a:r>
              <a:r>
                <a:rPr b="1" lang="fr-FR" sz="1000" spc="-1" strike="noStrike">
                  <a:solidFill>
                    <a:srgbClr val="cc99ff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19720" y="1600200"/>
              <a:ext cx="40176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48440" y="1600200"/>
              <a:ext cx="7128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18240" y="1600200"/>
              <a:ext cx="7128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9640" y="1600200"/>
              <a:ext cx="7128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86200" y="1600200"/>
              <a:ext cx="7164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83120" y="1600200"/>
              <a:ext cx="7128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41600" y="1600200"/>
              <a:ext cx="7164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17960" y="1600200"/>
              <a:ext cx="7128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16040" y="1600200"/>
              <a:ext cx="6984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37120" y="1600200"/>
              <a:ext cx="682560" cy="476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85800" y="2590920"/>
            <a:ext cx="7872480" cy="22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spAutoFit/>
          </a:bodyPr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cc99ff"/>
                </a:solidFill>
                <a:latin typeface="Arial"/>
              </a:rPr>
              <a:t>Portal Solution Package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&gt; is a description you can choose for your package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Please keep it as short as possible – “Short is beautiful”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e.g. all Portal Administration objects are contained in the Portal Solution Package „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com.eco.pct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tandard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cc99ff"/>
                </a:solidFill>
                <a:latin typeface="Arial"/>
              </a:rPr>
              <a:t>portal_admin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66680" y="1981080"/>
          <a:ext cx="7162920" cy="4471920"/>
        </p:xfrm>
        <a:graphic>
          <a:graphicData uri="http://schemas.openxmlformats.org/drawingml/2006/table">
            <a:tbl>
              <a:tblPr/>
              <a:tblGrid>
                <a:gridCol w="4732560"/>
                <a:gridCol w="2430360"/>
              </a:tblGrid>
              <a:tr h="328320">
                <a:tc gridSpan="2"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</a:t>
                      </a:r>
                      <a:r>
                        <a:rPr b="0" lang="en-GB" sz="18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function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play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Administ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ad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Business Intellig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b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ollabo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olla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ontent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ontrol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ustomer Relationship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E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e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Financi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f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Human Resource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Product Lifecycle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p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Project Mgm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p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Supplier Relationship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s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Supply Chain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s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14" name=""/>
          <p:cNvGrpSpPr/>
          <p:nvPr/>
        </p:nvGrpSpPr>
        <p:grpSpPr>
          <a:xfrm>
            <a:off x="2286000" y="1295280"/>
            <a:ext cx="5005440" cy="460440"/>
            <a:chOff x="2286000" y="1295280"/>
            <a:chExt cx="5005440" cy="460440"/>
          </a:xfrm>
        </p:grpSpPr>
        <p:sp>
          <p:nvSpPr>
            <p:cNvPr id="115" name=""/>
            <p:cNvSpPr/>
            <p:nvPr/>
          </p:nvSpPr>
          <p:spPr>
            <a:xfrm>
              <a:off x="2286000" y="1295280"/>
              <a:ext cx="3034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61480" y="1295280"/>
              <a:ext cx="5328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88120" y="1295280"/>
              <a:ext cx="5756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0000"/>
                  </a:solidFill>
                  <a:latin typeface="Arial"/>
                </a:rPr>
                <a:t>&lt;source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32720" y="1295280"/>
              <a:ext cx="631080" cy="4604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&lt;function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36880" y="1295280"/>
              <a:ext cx="5922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65840" y="1295280"/>
              <a:ext cx="5256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66640" y="1295280"/>
              <a:ext cx="253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31800" y="1295280"/>
              <a:ext cx="6350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96040" y="1295280"/>
              <a:ext cx="4014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25480" y="12952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9456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6596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6252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5944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1792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9464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91640" y="12952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937040" y="1295280"/>
            <a:ext cx="646200" cy="47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66680" y="1981080"/>
          <a:ext cx="7162920" cy="4529160"/>
        </p:xfrm>
        <a:graphic>
          <a:graphicData uri="http://schemas.openxmlformats.org/drawingml/2006/table">
            <a:tbl>
              <a:tblPr/>
              <a:tblGrid>
                <a:gridCol w="4732560"/>
                <a:gridCol w="2430360"/>
              </a:tblGrid>
              <a:tr h="274680">
                <a:tc gridSpan="2"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</a:t>
                      </a: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roduct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play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Glob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glob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Crossworl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bm_c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nternet p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nte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nterwoven Team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wov_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ntranet p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ntra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MS Ex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ms_ex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Not Applic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Open Text Live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live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eopleso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eopleso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A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a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Business Wareho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b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C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c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Enterprise Content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e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Enterprise Por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por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P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p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R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r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C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c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iebel C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iebel_c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Corporate Organi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35" name=""/>
          <p:cNvGrpSpPr/>
          <p:nvPr/>
        </p:nvGrpSpPr>
        <p:grpSpPr>
          <a:xfrm>
            <a:off x="2133720" y="1295280"/>
            <a:ext cx="5005440" cy="460440"/>
            <a:chOff x="2133720" y="1295280"/>
            <a:chExt cx="5005440" cy="460440"/>
          </a:xfrm>
        </p:grpSpPr>
        <p:sp>
          <p:nvSpPr>
            <p:cNvPr id="136" name=""/>
            <p:cNvSpPr/>
            <p:nvPr/>
          </p:nvSpPr>
          <p:spPr>
            <a:xfrm>
              <a:off x="2133720" y="1295280"/>
              <a:ext cx="3034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09200" y="1295280"/>
              <a:ext cx="5328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35840" y="1295280"/>
              <a:ext cx="5756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0000"/>
                  </a:solidFill>
                  <a:latin typeface="Arial"/>
                </a:rPr>
                <a:t>&lt;source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80440" y="1295280"/>
              <a:ext cx="631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&lt;function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84600" y="1295280"/>
              <a:ext cx="592200" cy="4604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cc6600"/>
                  </a:solidFill>
                  <a:latin typeface="Arial"/>
                </a:rPr>
                <a:t>&lt;product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13560" y="1295280"/>
              <a:ext cx="5256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14360" y="1295280"/>
              <a:ext cx="253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79520" y="1295280"/>
              <a:ext cx="6350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43760" y="1295280"/>
              <a:ext cx="4014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73200" y="12952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4228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1368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1024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0716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6564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4236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9360" y="12952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457960" y="1295280"/>
            <a:ext cx="645840" cy="47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762120" y="2209680"/>
          <a:ext cx="7772040" cy="4400640"/>
        </p:xfrm>
        <a:graphic>
          <a:graphicData uri="http://schemas.openxmlformats.org/drawingml/2006/table">
            <a:tbl>
              <a:tblPr/>
              <a:tblGrid>
                <a:gridCol w="5135040"/>
                <a:gridCol w="2637000"/>
              </a:tblGrid>
              <a:tr h="293760">
                <a:tc gridSpan="2"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ype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2680"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play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</a:tr>
              <a:tr h="29376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iView Templ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iv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i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age Templ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4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3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Ro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4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Work 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w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3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ayout Templ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4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ay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ystem Templ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ystem Al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ransport Pack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4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ar f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ar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1981080" y="1447920"/>
            <a:ext cx="5005440" cy="460080"/>
            <a:chOff x="1981080" y="1447920"/>
            <a:chExt cx="5005440" cy="460080"/>
          </a:xfrm>
        </p:grpSpPr>
        <p:sp>
          <p:nvSpPr>
            <p:cNvPr id="157" name=""/>
            <p:cNvSpPr/>
            <p:nvPr/>
          </p:nvSpPr>
          <p:spPr>
            <a:xfrm>
              <a:off x="1981080" y="1447920"/>
              <a:ext cx="30348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56560" y="1447920"/>
              <a:ext cx="53280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3200" y="1447920"/>
              <a:ext cx="57564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de-DE" sz="1000" spc="-1" strike="noStrike">
                  <a:solidFill>
                    <a:srgbClr val="0066ff"/>
                  </a:solidFill>
                  <a:latin typeface="Arial"/>
                </a:rPr>
                <a:t>source</a:t>
              </a:r>
              <a:r>
                <a:rPr b="0" i="1" lang="de-DE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27800" y="1447920"/>
              <a:ext cx="63108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function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31960" y="1447920"/>
              <a:ext cx="59220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60920" y="1447920"/>
              <a:ext cx="52560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61720" y="1447920"/>
              <a:ext cx="25308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26880" y="1447920"/>
              <a:ext cx="63504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91120" y="1447920"/>
              <a:ext cx="401400" cy="46008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20560" y="1447920"/>
              <a:ext cx="7056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8964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6104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5760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5452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1300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8972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86720" y="1447920"/>
              <a:ext cx="7056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5965920" y="1447920"/>
            <a:ext cx="450720" cy="47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133720" y="1600200"/>
            <a:ext cx="5005440" cy="460440"/>
            <a:chOff x="2133720" y="1600200"/>
            <a:chExt cx="5005440" cy="460440"/>
          </a:xfrm>
        </p:grpSpPr>
        <p:sp>
          <p:nvSpPr>
            <p:cNvPr id="177" name=""/>
            <p:cNvSpPr/>
            <p:nvPr/>
          </p:nvSpPr>
          <p:spPr>
            <a:xfrm>
              <a:off x="2133720" y="1600200"/>
              <a:ext cx="3034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09200" y="1600200"/>
              <a:ext cx="5328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35840" y="1600200"/>
              <a:ext cx="5756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de-DE" sz="1000" spc="-1" strike="noStrike">
                  <a:solidFill>
                    <a:srgbClr val="0066ff"/>
                  </a:solidFill>
                  <a:latin typeface="Arial"/>
                </a:rPr>
                <a:t>source</a:t>
              </a:r>
              <a:r>
                <a:rPr b="0" i="1" lang="de-DE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780440" y="1600200"/>
              <a:ext cx="631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function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84600" y="1600200"/>
              <a:ext cx="5922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613560" y="1600200"/>
              <a:ext cx="525600" cy="4604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&lt;name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14360" y="1600200"/>
              <a:ext cx="253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79520" y="1600200"/>
              <a:ext cx="6350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43760" y="1600200"/>
              <a:ext cx="4014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73200" y="160020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54228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1368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0716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6564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4236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39360" y="160020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600960" y="1600200"/>
            <a:ext cx="538200" cy="47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2895480"/>
            <a:ext cx="8288280" cy="33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spAutoFit/>
          </a:bodyPr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&lt;</a:t>
            </a:r>
            <a:r>
              <a:rPr b="0" lang="de-DE" sz="1800" spc="-1" strike="noStrike">
                <a:solidFill>
                  <a:srgbClr val="ff9900"/>
                </a:solidFill>
                <a:latin typeface="Arial"/>
              </a:rPr>
              <a:t>name</a:t>
            </a: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&gt; is the description of the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Please keep it as short as possible 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– “Short is beautifu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e.g.</a:t>
            </a:r>
            <a:br>
              <a:rPr sz="1800"/>
            </a:b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 </a:t>
            </a:r>
            <a:br>
              <a:rPr sz="1800"/>
            </a:b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com.eco.pct.</a:t>
            </a:r>
            <a:r>
              <a:rPr b="1" lang="de-DE" sz="1400" spc="-1" strike="noStrike">
                <a:solidFill>
                  <a:srgbClr val="0000ff"/>
                </a:solidFill>
                <a:latin typeface="Arial"/>
              </a:rPr>
              <a:t>standard</a:t>
            </a: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de-DE" sz="1400" spc="-1" strike="noStrike">
                <a:solidFill>
                  <a:srgbClr val="cc99ff"/>
                </a:solidFill>
                <a:latin typeface="Arial"/>
              </a:rPr>
              <a:t>portal_admin</a:t>
            </a: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de-DE" sz="1400" spc="-1" strike="noStrike">
                <a:solidFill>
                  <a:srgbClr val="009900"/>
                </a:solidFill>
                <a:latin typeface="Arial"/>
              </a:rPr>
              <a:t>admin</a:t>
            </a: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intranet</a:t>
            </a: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iv</a:t>
            </a: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portal_component_registration</a:t>
            </a:r>
            <a:br>
              <a:rPr sz="1400"/>
            </a:br>
            <a:br>
              <a:rPr sz="1800"/>
            </a:b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for the iView displaying the Portal Component Registration belonging to the Portal Solution Package 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„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com.eco.pct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tandard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cc99ff"/>
                </a:solidFill>
                <a:latin typeface="Arial"/>
              </a:rPr>
              <a:t>portal_admin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EP Sample Naming Conventions</dc:description>
  <dc:language>en-US</dc:language>
  <cp:lastModifiedBy>d003179</cp:lastModifiedBy>
  <cp:lastPrinted>2000-05-10T17:23:18Z</cp:lastPrinted>
  <dcterms:modified xsi:type="dcterms:W3CDTF">2003-11-20T15:44:19Z</dcterms:modified>
  <cp:revision>455</cp:revision>
  <dc:subject/>
  <dc:title>EP Sample Naming Conventions</dc:title>
</cp:coreProperties>
</file>